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904-2519-441A-AE9C-E83C72C3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F2D-02F9-4C43-A96D-50562C7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E84-32BA-43A2-B386-4C76DF2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681-E467-443E-8782-176A5138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7CD-44E8-48A9-849F-8700C98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9E1-EBD2-43E2-A7A7-09C744E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18C-AE6D-45A7-8DB5-DF78669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296-651F-4FFA-9A2E-47FC846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699-91E1-4616-91F5-F4EFA4B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FD7-E0FD-43EE-977B-63C8856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6C9-D2DD-40FF-8870-5FC9322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1D9-7539-4551-BEF2-D4CB5AE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536-E4DB-4746-B1F0-23AEF2EC30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Birthday Basket for Ti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pinata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inetiet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au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ask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ollec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an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favorit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4-24T01:36:54Z</dcterms:modified>
  <cp:revision>38</cp:revision>
  <dc:subject/>
  <dc:title>Password</dc:title>
</cp:coreProperties>
</file>